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jpeg" ContentType="image/jpeg"/>
  <Override PartName="/ppt/media/image9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083-E303-45D6-9A20-3504DC77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9CC-9319-42D1-8ABE-283A15FB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510-708D-47F6-B5EC-E24241E8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22B-7C9C-431D-9CFD-A5850DBF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A27-C997-4B71-9C4D-2D352B9C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B41C-54BB-4731-AD5C-20B60BC5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7A4-97ED-456E-A23D-69A908F9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139-DABC-493B-8199-D517E283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047-67CA-41B1-A712-892BD244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361-C8A4-4997-A8B7-57BF6CC4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BF4-D6C3-4572-B6FD-33EFD0BF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12E-216D-4E04-8E82-465F9273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DEBFFFF4-EBE6-4D1C-B605-34667A3B51DB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vlbi.org/evlbi/evlbi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3156120"/>
            <a:ext cx="5029200" cy="2739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4114800" cy="2246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705720" y="3700440"/>
            <a:ext cx="1828800" cy="1557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9246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rgeting transient phenomena with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-VLBI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828440"/>
            <a:ext cx="3429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Zsolt Paragi (JIVE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for the EXPRe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1701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11640" y="577800"/>
            <a:ext cx="79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RB high frequency follow-up (&gt;5 GHz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65240"/>
            <a:ext cx="7616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is fireball model corr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within a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1-2 week, every 3-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Swift, GLAST, +radio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IRAM, Ryle, VLA, MER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min. 512 Mbps, 22 GHz, Ef! (+GBT,Usuda64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5BB-CCEE-4C7E-BE0A-1A2D1CF675D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2000" y="577800"/>
            <a:ext cx="80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RB high frequency follow-up (1-5 GHz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65240"/>
            <a:ext cx="7616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afterglow evolution at lat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3-4 week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order of a year, every 2-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Swift, GLAST, +radio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WSRT, VLA, MER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min. 512 Mbps, 1.6-5 GHz, Ef+Wb+LT+Chi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3FA-F273-4C64-951E-3A90F80554C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3440" y="57780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LAST gamma flares from blaz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965240"/>
            <a:ext cx="76168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jet models, high energy emission IC/SSC 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years, half y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G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min. 256 Mbps, 0.6-22 G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859-3B95-40B0-8281-B1097BBCF9B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2360" y="577800"/>
            <a:ext cx="702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LAST gamma flares from LLAG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965240"/>
            <a:ext cx="76168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je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years, half  y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G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VLA, MER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512 Mbps, 1.6-5 GHz, Ef+Wb+LT+Chi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little – search for calib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50D-2C8F-46C3-AB77-AC4EC0D05B2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12000" y="577800"/>
            <a:ext cx="58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N Type Ib/c “off axis” GRB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65240"/>
            <a:ext cx="7616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SN/GRB connection; is fireball model corr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1-2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months, mont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optical, +radio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optical or radio (e.g. WS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min. 512 Mbps, 1.6/5 GHz, Ef+WB+LT+Chi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391-CB8A-4135-B2B5-F43F1B32776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12720" y="577800"/>
            <a:ext cx="45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arly evolution of S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65240"/>
            <a:ext cx="76168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early SN evolution, testing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2-3 weeks, every 3-4 day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optical, +radio ID (e.g. WS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IRAM, Ryle, VLA, MER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min. 512 Mbps,  5/22 GHz, Ef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C85-8AE8-4934-8266-AB858430581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10920" y="577800"/>
            <a:ext cx="75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Known transients flaring (uQSO, SGR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965240"/>
            <a:ext cx="76168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jet prod mechanism; jets from non-NH/NS 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within a day, or as soon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1 week, every 1-3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RATAN, Ryle… -may be triggered from other waveba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min. 256 Mbps, 5 GHz (+S/X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81C-F204-429F-A251-142AD51C116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3440" y="57780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Known transients, special trigg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965240"/>
            <a:ext cx="7616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various, e.g. jet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within a d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1 week, every 1-3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Wb, or e-VL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256/512 Mbps, 1.6/5 GHz, Ef+Wb+LT+Ar; pol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only Wb+e-EVN can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33E-4748-431D-A2D7-8B8AE110734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3800" y="577800"/>
            <a:ext cx="69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Unknown Galactic transients fla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965240"/>
            <a:ext cx="7616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nature of  new trans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within a day, if possible; sometimes evolve on longer timescales (depending on type of sou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depends on what we see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RXTE, Swift, GLAST, INTEGRAL+radio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Swift and GLAST ~ok; WSRT prior  to VLBI 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512 Mbps, 1.6/5 GHz, Ef+Wb+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only WB+e-EVN can do this very qu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F92-92ED-4D5C-82A4-A0244405430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6320" y="577800"/>
            <a:ext cx="74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xtragalactic (stellar) transients fla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965240"/>
            <a:ext cx="7616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accurate location of transient?- will not be resol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within a day, or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yes, but probably not with VL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RXTE, Swift, GLAST, +WSRT quick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Swift, GLAST ~ok/ WS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min. 512 Mbps, 5 GHz, Ef+WB+LT (+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only WB+e-EVN can do this when quick position update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59F-6B1B-4966-B670-8D708A9A85E9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5040" y="417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1880" y="533520"/>
            <a:ext cx="77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does e-VLBI mean to the obser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5040" y="1371600"/>
            <a:ext cx="885960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id response, ideal for observing trans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id feedback, you know if it works, you know what you obser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quick decision about more observations (VLBI or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if real-time correlation is not strictly justified, prompt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n timescales similar to instruments in other wavebands) is 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ve to users! – why not let them enjoy these benef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access, easy use – high level of PI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BI accessible for a wider community – but we have to promo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new types of VLBI research poss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483-D573-4EF5-9B0B-564D01CEAF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4160" y="5778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Other Galactic variable sour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965240"/>
            <a:ext cx="76168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stellar flare localization and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within hour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single epoch, full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Wb/e-VL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256-512 Mbps, 5 GHz, Ef+Wb+Chinese, polc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only Wb-e-EVN can do this (Wb observes a sample of sources =&gt; e-EVN a selected, active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D9F-8976-4416-BDEE-9E4343A2753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11280" y="577800"/>
            <a:ext cx="36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OFAR transi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965240"/>
            <a:ext cx="76168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nature if these trans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hour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LO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LOFAR +quick WS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only WB+e-EVN can get quick coord.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60B-C8E8-42A5-8378-1FE0BFACCF43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3800" y="577800"/>
            <a:ext cx="709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XRB low/hard state jet proper 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a case for “special trigger” ob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193840"/>
            <a:ext cx="76168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 goal: jet production/acceleratio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ime: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: 2-3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: e-VL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s: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resources needed: Ar+Ef+Wb+LT, 1.6/5 GHz, min. 512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benefit: only Ar+e-EVN can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18F-19BF-4A96-823C-0CFBCB93E74F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898000" y="2286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-VLBI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5000" y="866880"/>
            <a:ext cx="76168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of all, it works! Significantly reduces science turnaroun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LBI is easy and practical for users with little or no experience with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. Data analysis pipeline does most of the work! Additional 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is available at J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esterbork + e-EV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/will be a unique instrument: calibration, WSRT alert for  e-VLBI, position information on new transients; e-MERLIN may play a similar role lat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developments are mainly driven by technical/logistic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considerations, but there is the possibility of doing new type of VLBI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science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whe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daptive schedu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becoming a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for Galactic transient observations: classic microquasars, magnetars,  X-ray flare transients, pulsars?, dMe stellar “super-flares” (talk by Rachel Osten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LEASE CONTRIBUTE TO THE SCIENCE CA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5E5-6897-4011-96E6-6381F2111975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8000" y="1111320"/>
            <a:ext cx="8040600" cy="4527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49760" y="3429000"/>
            <a:ext cx="35942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Times New Roman"/>
              </a:rPr>
              <a:t>Test cases: black holes in outbu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33cc"/>
                </a:solidFill>
                <a:latin typeface="Times New Roman"/>
              </a:rPr>
              <a:t>Data processing took 1-2 weeks with first images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Times New Roman"/>
              </a:rPr>
              <a:t>within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33cc"/>
                </a:solidFill>
                <a:latin typeface="Times New Roman"/>
              </a:rPr>
              <a:t>Publication took less than 2 month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1520" y="228600"/>
            <a:ext cx="70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VLBI / e-VLBI observation tim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B53-39CA-41F9-A987-5AFF8679B5A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8640" y="196920"/>
            <a:ext cx="74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y do we need e-VLBI: ToO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1030320"/>
            <a:ext cx="5613120" cy="5294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347000" y="110484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xample: the huge flare of SGR1806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04720" y="1600200"/>
            <a:ext cx="456696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GR1806-20 is a soft gamma-ray repeat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utron star with very strong magnetic field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ed the greatest explosion witness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ans in our Galaxy, on 27 Decemb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ations with various instruments,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BI (with the VLBA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ld not image reliably because of lac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calibrator in the vicinity of the targ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s there a way to do these projects m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fficiently? Is there a way to ge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ata and analyze them quickly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72040" y="5805360"/>
            <a:ext cx="36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ender et al. (2005), MNRA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67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461-61F7-4019-8515-25D6ABBED14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5639040" cy="4510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6920" y="152280"/>
            <a:ext cx="76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nother example: SS433 during outbu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2578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ompact jet quenched during outbursts in SS433, just like in other XRBs. Can we observe these systems in good time to follow this process right from the begin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7280" y="2085840"/>
            <a:ext cx="184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BA, 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ragi et al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ew A.R. 43, 5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4AF-B268-4BC9-A3E3-03B952C926D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-VLBI: data rate impro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365120"/>
            <a:ext cx="4419720" cy="3359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267080" y="2898720"/>
            <a:ext cx="4419720" cy="30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46E-6845-414E-B533-3502169475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1520" y="304920"/>
            <a:ext cx="59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-VLBI activities in 2006/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6920" y="1066680"/>
            <a:ext cx="83826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 e-VLBI test observations in every six week (on averag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h time is pre-allocated for science observation during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VLBI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ing proposals submitted up to two weeks befo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ed date (CHANGED!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operations at 1.6 and 5GHz at 128/256 Mb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m, Jb2, Mc, On, Tr, W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22 GHz test with Metsahovi in March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nges to all connected telescopes at 512 Mb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recently to Tor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nfo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evlbi.org/evlbi/evlbi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095880" cy="4876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776680" y="144792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EVN, first 512 Mbps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48B6-B225-4C6C-A34A-9FBDCA8338A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9000" y="349200"/>
            <a:ext cx="57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cience projects in 2006/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5600" y="1371600"/>
            <a:ext cx="763272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g X-3, 20 Apr/18 May, 128 Mbps, Tudose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S1915+105, 20 Apr, 128 Mbps, Rushton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I +61.303, 256 Mbps, 26 Oct, Perez-Torres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l, 26 Oct/14 Dec, 256 Mbps, Paragi et al.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ee po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ibrators near M81, 14 Dec, 256 Mbps, Brunthaler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L microquasar candidates, 14 Dec, Pandey et al.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ee po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header” run, 15 XRBs, 29 Jan, Rushton &amp; Spencer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ee po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ibrators, 21 Feb, 256 Mbps, Tudose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2020+3631 microquasar candidate, 28 Mar, 256 Mbps, M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0A0-00E9-4ACF-9724-62FFCA33DCB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16960" y="349200"/>
            <a:ext cx="83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esterbork 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e-EVN as a unique instr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25640" y="1219320"/>
            <a:ext cx="72039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sterbork Synthesis Array data may help in calibration (amplitude, linear and circular polarization; linear feeds!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help to confirm detection/non-detection of weak targ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used as a ‘built-in’ alert instrument for the e-EV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b can help improving coordinates of new transients… (note that there are cases when we cannot afford time to get this information from an external instrument, e.g. the V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daptive schedu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is could be immediately use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LBI array; wit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daptive scheduling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b could quickly trigger observations of ~hours stellar f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to mention the additional information on the very large-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 (which we normally waste when we do not reduce Wb   data along with the EV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sts, Pulses and Flickering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885-F893-4E7F-9F67-8E79A9DBF64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June 12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Guest</cp:lastModifiedBy>
  <dcterms:modified xsi:type="dcterms:W3CDTF">2002-08-22T21:57:52Z</dcterms:modified>
  <cp:revision>168</cp:revision>
  <dc:subject/>
  <dc:title>Slide 1</dc:title>
</cp:coreProperties>
</file>